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C54-36F6-4367-9765-D3732DE9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AE3-A2F2-4F8E-B954-980BD7A6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767-F67E-4658-8BD5-F2AA1E94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0A2-B2D2-4BF5-B08F-68BA27E1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984-4A24-4098-A6F2-4BA678C1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0A2-AC05-4495-80F7-058CE271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A0D-96A0-4479-BE78-3481089D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D75-41A8-4B30-AF0F-025E0CD4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A39-C3CA-4C5D-AF38-06F7A573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0FB-2863-42F1-89EC-93F8CD6A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457-89E0-4658-940E-73EBE4E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098-A582-4681-A10F-D0405F46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0DD3-242E-4D0A-8E91-AF38F6597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75720" y="5859360"/>
            <a:ext cx="3952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tâch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9560" y="1438200"/>
            <a:ext cx="5924880" cy="397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63800" y="5859360"/>
            <a:ext cx="498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support d’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9560" y="549360"/>
            <a:ext cx="5924880" cy="493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72840" y="5859360"/>
            <a:ext cx="395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liai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6640" y="728640"/>
            <a:ext cx="5133960" cy="494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09:13:09Z</dcterms:modified>
  <cp:revision>79</cp:revision>
  <dc:subject/>
  <dc:title>Présentation PowerPoint</dc:title>
</cp:coreProperties>
</file>